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42F-B8DA-4EFF-A937-D83F4D11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47C-BC1F-43FF-A3E3-B82BD230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A78-0BD5-4D51-86C9-82118B9C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73F-4895-4EAC-9111-DF764EC8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499-E5F6-440F-8DD5-74B1BA1D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F87-03A7-47B5-BD85-C315E419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A28-4D27-4929-A22E-51F662B2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84F-228F-4F5B-8051-AF5131FA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1CB-E958-4B8C-BA5E-271ADB21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DAD-9009-4B2A-9095-A389F0ED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3F5-DB6B-4E2A-83A1-9F706EDC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D8D-AA82-497D-8C2F-B70A50C9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2414-C0DE-4F97-9D89-05020A875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plain of green s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 parachutes that 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 Kentucky b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rd the sharps of d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bgrass persistently def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quers the yard compl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429000" y="2285640"/>
            <a:ext cx="1752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7880" y="28954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8040" y="3505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3920" y="28954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bg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2200" y="838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11840" y="10666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4000" y="13716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8200" y="15238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m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92400" y="22860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2080" y="40384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8320" y="22096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ne g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505320"/>
            <a:ext cx="16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tucky blue g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4680" y="51055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280" y="51055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2560" y="44956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44956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8480" y="51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3640" y="57913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1080" y="55180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876920" y="19807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12408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2819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289548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4419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952880" y="25142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434340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4648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276720" y="28954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267080"/>
            <a:ext cx="2286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548640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533412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590920" y="251460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362320" y="2666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2895120" y="16765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733560" y="137160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343400" y="1828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45:33Z</dcterms:created>
  <dc:creator>Tamera Detrick-Posthumus</dc:creator>
  <dc:description/>
  <dc:language>en-US</dc:language>
  <cp:lastModifiedBy>Tamera Detrick-Posthumus</cp:lastModifiedBy>
  <dcterms:modified xsi:type="dcterms:W3CDTF">2009-10-02T00:36:29Z</dcterms:modified>
  <cp:revision>3</cp:revision>
  <dc:subject/>
  <dc:title>PowerPoint Presentation</dc:title>
</cp:coreProperties>
</file>